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1.wmf" ContentType="image/x-wmf"/>
  <Override PartName="/ppt/media/image26.png" ContentType="image/png"/>
  <Override PartName="/ppt/media/image38.png" ContentType="image/png"/>
  <Override PartName="/ppt/media/image3.png" ContentType="image/png"/>
  <Override PartName="/ppt/media/image33.png" ContentType="image/png"/>
  <Override PartName="/ppt/media/image12.wmf" ContentType="image/x-wmf"/>
  <Override PartName="/ppt/media/image35.png" ContentType="image/png"/>
  <Override PartName="/ppt/media/image5.png" ContentType="image/png"/>
  <Override PartName="/ppt/media/image13.wmf" ContentType="image/x-wmf"/>
  <Override PartName="/ppt/media/image4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0.png" ContentType="image/png"/>
  <Override PartName="/ppt/media/image8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30.png" ContentType="image/png"/>
  <Override PartName="/ppt/media/image28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15.png" ContentType="image/png"/>
  <Override PartName="/ppt/media/image16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81F-5261-4C96-BA8E-7C3381D1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E338-CDD4-4761-A9BD-EBEF4F64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4CD0-475F-4981-B73E-E88A2044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133-46DD-47B4-BB35-77E124A5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0486-C409-4986-BC8C-10ED0747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B1E6-ADDA-4780-A304-EB67D98E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F56-5662-443A-BFB7-254DAFDA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2F2-5753-4DED-B648-E43656F1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D6D-3F09-40B4-9EAE-1A4A1F7F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261-F941-4F60-8D96-94640C61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D71-1D7D-449E-8F27-B5FF9E6A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D38-8610-4F11-B5F2-E7E59671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AC5D-1B21-4561-B0D6-AD90BA061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0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0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0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0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4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g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Algorithms, Pseudocode and Program Control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096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Algorithm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Pseudocod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trol Statement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Selection Statemen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if…els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Selection Statemen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7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8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Assignment Operator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9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Formatting Number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10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Window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1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trol Statement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, selection, 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d one after another in the order in which they are 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f…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ingle selectio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…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ouble selectio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ultiple selectio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o…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Entry / Single 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cking / nes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trol Stateme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ied Modeling Language (U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ity Dia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s the workflow of a portion of a softwar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mbols in U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-state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tangles with left and right sides curv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 an action about to occ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m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 a decision to b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cir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 initial and final state of work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ion ar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41680" y="2565360"/>
            <a:ext cx="290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41680" y="2565360"/>
            <a:ext cx="290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2200" y="1219320"/>
            <a:ext cx="478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 statement activity dia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33360" y="1600200"/>
            <a:ext cx="6675480" cy="2185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L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state symbols, diamonds, small circles, transition ar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L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com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trol Stateme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election Statemen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performs action based on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ditions are boolean expressions (true / false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ment executes when boolean expression i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s are formed with equality operators and relational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pseu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275aff"/>
                </a:solidFill>
                <a:latin typeface="Times New Roman"/>
              </a:rPr>
              <a:t>If student’s grade is greater than or equal to 60</a:t>
            </a:r>
            <a:br>
              <a:rPr sz="1400"/>
            </a:br>
            <a:r>
              <a:rPr b="0" i="1" lang="en-US" sz="14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275aff"/>
                </a:solidFill>
                <a:latin typeface="Times New Roman"/>
              </a:rPr>
              <a:t>Display “Passe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ing C++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857840" y="4648320"/>
            <a:ext cx="352404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eater tha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greate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less tha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les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it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al to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not equal to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is a syntax error to add spaces in between the symbo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uch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 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 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versing the symbols 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syntax error (such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the assignmen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when the equality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is inten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Selec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Selec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4360" y="1368360"/>
          <a:ext cx="77691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68360"/>
                    <a:ext cx="77691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29120" y="2832120"/>
            <a:ext cx="2171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1840" y="1233360"/>
            <a:ext cx="60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ngle-selection statement UML activity dia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Selec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06720" y="1600200"/>
            <a:ext cx="4929120" cy="2185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L diamond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/ decision model of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…els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Selection Statemen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…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ction if condition statement is 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separa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ction if condition statement is 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…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check for multiple cond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25680" y="2836800"/>
            <a:ext cx="322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3280" y="1233360"/>
            <a:ext cx="67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…e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ouble-selection statement UML activity dia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…els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Selec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1600200"/>
            <a:ext cx="71992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685800" y="1370160"/>
          <a:ext cx="776592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0160"/>
                    <a:ext cx="77659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…els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Selec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57200"/>
            <a:ext cx="5943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basic problem-solving techniqu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control statem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pseudocode as an application development too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…e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lection statements to choose between alternative a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assignment operato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constants to contain values that do not change as an application execu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debugger’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ndow to evaluate express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debugger’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al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ndow to change variable values during program execu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84360" y="1366920"/>
          <a:ext cx="7731000" cy="51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66920"/>
                    <a:ext cx="77310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…els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Selec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4360" y="1411200"/>
          <a:ext cx="7769160" cy="51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1200"/>
                    <a:ext cx="776916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…els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Selec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1440" y="1949400"/>
            <a:ext cx="6269040" cy="1486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15440" y="1461960"/>
            <a:ext cx="627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(containing only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13372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iti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22860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" dur="1" fill="hold"/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" dur="1" fill="hold"/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6240240" cy="309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10040" y="1339920"/>
            <a:ext cx="44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ing user input to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981080"/>
            <a:ext cx="1676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variables to store user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22860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971800"/>
            <a:ext cx="213372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user for hourly rage and input result in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W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4290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4419720"/>
            <a:ext cx="1828800" cy="1310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user for hours worked and input result in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sWork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981080" y="419112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" dur="1" fill="hold"/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94080" y="1944720"/>
            <a:ext cx="6269040" cy="1495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italize names to make them sta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that cannot be changed after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by preceding data type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2920" y="1447920"/>
            <a:ext cx="332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cons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259092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ant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74320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" dur="1" fill="hold"/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2" dur="1" fill="hold"/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17760" y="1944720"/>
            <a:ext cx="6269040" cy="14954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itive typ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represent floating-point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3640" y="1461960"/>
            <a:ext cx="50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 variable of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2590920"/>
            <a:ext cx="1600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752480" y="28191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4" dur="1" fill="hold"/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94080" y="1905120"/>
            <a:ext cx="6269040" cy="3429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14360" y="1386000"/>
            <a:ext cx="59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…e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 that calculates gross w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2743200"/>
            <a:ext cx="19814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…els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ment to calculate w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133720" y="2819160"/>
            <a:ext cx="1218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5410080"/>
            <a:ext cx="714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whether the hours worked were less than the hour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" dur="1" fill="hold"/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8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9" dur="1" fill="hold"/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438280" y="1876320"/>
            <a:ext cx="6249960" cy="1324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9320" y="1447920"/>
            <a:ext cx="369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gross w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2286000"/>
            <a:ext cx="16765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2438280"/>
            <a:ext cx="1447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0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1" dur="1" fill="hold"/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76560" y="205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11480" y="1447920"/>
            <a:ext cx="62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1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d application displaying unformatted nu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2514600"/>
            <a:ext cx="28195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unformatted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66688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2" dur="1" fill="hold"/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3" dur="1" fill="hold"/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9600" y="1833480"/>
            <a:ext cx="79833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8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Assignment Operator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8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Assignment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417760" y="2111400"/>
            <a:ext cx="6269040" cy="1162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 assignment operator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makes it unnecessary to includ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 in both the left and right oper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0760" y="1447920"/>
            <a:ext cx="649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2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addition assignment operator in a calcu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438280"/>
            <a:ext cx="19051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 assignment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133720" y="26668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" dur="1" fill="hold"/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5" dur="1" fill="hold"/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9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ormatting Number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x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floating-point values should be displayed in fixed-point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the number of digits displayed to the right of the decim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ized 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ead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parameterized stream manip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prec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digits to the right of the decim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parameterized 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x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requir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iomani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9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ormatting Numbe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41440" y="2106720"/>
            <a:ext cx="6269040" cy="1171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nipulator without includ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der file is a syntax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3280" y="1562040"/>
            <a:ext cx="48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2197080"/>
            <a:ext cx="198144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eader file declare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ream manip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274320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6" dur="1" fill="hold"/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7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9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ormatting Numbe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17760" y="1940040"/>
            <a:ext cx="6269040" cy="1504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16520" y="1233360"/>
            <a:ext cx="86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x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ream manipulators to display the gr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ges with two digits of precision to the right of the decimal 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1981080"/>
            <a:ext cx="2286000" cy="155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x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ream manipulators ca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display numeric values accurate to two decimal pl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19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8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9" dur="1" fill="hold"/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9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ormatting Numbe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76560" y="2514600"/>
            <a:ext cx="5610240" cy="1276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10040" y="1447920"/>
            <a:ext cx="60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d application displaying formatted w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895480"/>
            <a:ext cx="26668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formatted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0481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1" dur="1" fill="hold"/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0"/>
          <a:ext cx="685656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6934320" y="91440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geCalculator.c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2133720"/>
            <a:ext cx="2362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s to store fractional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285640" y="2438280"/>
            <a:ext cx="4267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2" dur="1" fill="hold"/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3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934320" y="91440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geCalculator.c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1981080"/>
            <a:ext cx="30481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keyword specifies tha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_LIM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a cons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838080" y="1828800"/>
            <a:ext cx="5105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2895480"/>
            <a:ext cx="26672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 to store gross w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1752480" y="2438280"/>
            <a:ext cx="45720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4419720"/>
            <a:ext cx="24382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…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62120" y="3276720"/>
            <a:ext cx="4952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0" dur="1" fill="hold"/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1" dur="1" fill="hold"/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0"/>
          <a:ext cx="685656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6934320" y="91440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geCalculator.c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1676520"/>
            <a:ext cx="274320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art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…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art executes when condition in line 33 evaluates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837720" y="228240"/>
            <a:ext cx="54104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3048120"/>
            <a:ext cx="2819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ign left operand the value of adding left and right oper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600200" y="1600200"/>
            <a:ext cx="45720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380880"/>
            <a:ext cx="25909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art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…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62120" y="533520"/>
            <a:ext cx="39621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2209680"/>
            <a:ext cx="1600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 result as a dollar a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819160" y="2514600"/>
            <a:ext cx="1447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6" dur="1" fill="hold"/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7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0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379600" y="2309760"/>
            <a:ext cx="6230880" cy="3105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11840" y="1447920"/>
            <a:ext cx="49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2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 breakpoints at lines 23 and 3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2666880"/>
            <a:ext cx="19814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eakpoint at line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3657600"/>
            <a:ext cx="19051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gin indicator 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4876920"/>
            <a:ext cx="19814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eakpoint at line 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133720" y="49528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4" dur="1" fill="hold"/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5" dur="1" fill="hold"/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66880" y="2168640"/>
            <a:ext cx="5610240" cy="1047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2200" y="1568520"/>
            <a:ext cx="52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66880" y="2666880"/>
            <a:ext cx="5610240" cy="7048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13280" y="1447920"/>
            <a:ext cx="60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2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hourly wage before breakpoint is reac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0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639040" cy="822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752480" y="3429000"/>
            <a:ext cx="5639040" cy="1057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14360" y="1447920"/>
            <a:ext cx="80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2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execution suspended when debugger reaches the breakpoint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0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0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038560" y="2178000"/>
            <a:ext cx="3495960" cy="1028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ndow allows new values to be assigned to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itialized variables are assigned random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120" y="1461960"/>
            <a:ext cx="45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ining varia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W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2514600"/>
            <a:ext cx="4267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of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W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riable displa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2666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6" dur="1" fill="hold"/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7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14880" y="1905120"/>
            <a:ext cx="3495600" cy="1028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114880" y="3048120"/>
            <a:ext cx="3495600" cy="1133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09680" y="1447920"/>
            <a:ext cx="48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ining the values of expres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0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133720"/>
            <a:ext cx="34290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ng an arithmetic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3276720"/>
            <a:ext cx="2971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67080" y="2286000"/>
            <a:ext cx="10670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57600" y="342900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7" dur="1" fill="hold"/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0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038560" y="2049480"/>
            <a:ext cx="3495960" cy="12859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modified since the last breakpoint are displayed in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0760" y="1447920"/>
            <a:ext cx="80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3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value of the variables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2362320"/>
            <a:ext cx="35812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of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sWork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_LIM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s displayed in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114800" y="251424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26668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276800" y="2049480"/>
            <a:ext cx="3495600" cy="1285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ing values insid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0040" y="1447920"/>
            <a:ext cx="307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3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ying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2286000"/>
            <a:ext cx="28195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 modified in the debu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243828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0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360520" y="2216160"/>
            <a:ext cx="6249960" cy="952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12560" y="1447920"/>
            <a:ext cx="750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3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 a breakpoint at line 54 prevents the application from ex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mediately after displaying its resu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2514600"/>
            <a:ext cx="1981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eakpoint at line 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26668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0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8" dur="1" fill="hold"/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9" dur="1" fill="hold"/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0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766880" y="205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reflects the modified values 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5080" y="1461960"/>
            <a:ext cx="697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3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displayed after modify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sWork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ri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66880" y="211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hourly wag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m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3640" y="1447920"/>
            <a:ext cx="588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data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1825560"/>
            <a:ext cx="5610240" cy="1733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hours worked this week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m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7880" y="1447920"/>
            <a:ext cx="400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calculated w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6880" y="1825560"/>
            <a:ext cx="5610240" cy="1733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ting floating-point values and returning a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7880" y="1447920"/>
            <a:ext cx="400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calculated w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actions to be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order in which these actions are to be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sk of executing statements in correct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Algorithm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l language to develop algorith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mbles everyday Englis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 programming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describes executable 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Assign 0 to the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equal 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er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seudocode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16:27:21Z</dcterms:created>
  <dc:creator>Jeffrey Peng</dc:creator>
  <dc:description/>
  <dc:language>en-US</dc:language>
  <cp:lastModifiedBy>Pearson Education</cp:lastModifiedBy>
  <dcterms:modified xsi:type="dcterms:W3CDTF">2004-10-11T14:11:21Z</dcterms:modified>
  <cp:revision>176</cp:revision>
  <dc:subject/>
  <dc:title>Tutorial 4 – Wage Calculator Application</dc:title>
</cp:coreProperties>
</file>